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16257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Gill Sans"/>
              </a:rPr>
              <a:t>Click to move the slide</a:t>
            </a:r>
            <a:endParaRPr b="0" lang="en-US" sz="7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Note from Chuck.   Please retain and maintain this page as you remix and republish these materials.  Please add any of your own improvements or contributions.   </a:t>
            </a:r>
            <a:endParaRPr b="0" lang="en-US" sz="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09840" y="642960"/>
            <a:ext cx="13237920" cy="18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09840" y="2597040"/>
            <a:ext cx="1323792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09840" y="5393160"/>
            <a:ext cx="1323792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09840" y="642960"/>
            <a:ext cx="13237920" cy="18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09840" y="2597040"/>
            <a:ext cx="645984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292960" y="2597040"/>
            <a:ext cx="645984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09840" y="5393160"/>
            <a:ext cx="645984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292960" y="5393160"/>
            <a:ext cx="645984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09840" y="642960"/>
            <a:ext cx="13237920" cy="18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09840" y="2597040"/>
            <a:ext cx="426240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985720" y="2597040"/>
            <a:ext cx="426240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461600" y="2597040"/>
            <a:ext cx="426240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09840" y="5393160"/>
            <a:ext cx="426240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985720" y="5393160"/>
            <a:ext cx="426240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10461600" y="5393160"/>
            <a:ext cx="426240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09840" y="642960"/>
            <a:ext cx="13237920" cy="18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09840" y="2597040"/>
            <a:ext cx="1323792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23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9840" y="642960"/>
            <a:ext cx="13237920" cy="18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9840" y="2597040"/>
            <a:ext cx="13237920" cy="53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09840" y="642960"/>
            <a:ext cx="13237920" cy="18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9840" y="2597040"/>
            <a:ext cx="6459840" cy="53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292960" y="2597040"/>
            <a:ext cx="6459840" cy="53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09840" y="642960"/>
            <a:ext cx="13237920" cy="18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09840" y="642960"/>
            <a:ext cx="13237920" cy="87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23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9840" y="642960"/>
            <a:ext cx="13237920" cy="18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9840" y="2597040"/>
            <a:ext cx="645984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292960" y="2597040"/>
            <a:ext cx="6459840" cy="53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9840" y="5393160"/>
            <a:ext cx="645984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09840" y="642960"/>
            <a:ext cx="13237920" cy="18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09840" y="2597040"/>
            <a:ext cx="1323792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23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09840" y="642960"/>
            <a:ext cx="13237920" cy="18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09840" y="2597040"/>
            <a:ext cx="6459840" cy="53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292960" y="2597040"/>
            <a:ext cx="645984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292960" y="5393160"/>
            <a:ext cx="645984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09840" y="642960"/>
            <a:ext cx="13237920" cy="18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09840" y="2597040"/>
            <a:ext cx="645984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292960" y="2597040"/>
            <a:ext cx="645984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09840" y="5393160"/>
            <a:ext cx="1323792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09840" y="642960"/>
            <a:ext cx="13237920" cy="18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09840" y="2597040"/>
            <a:ext cx="1323792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09840" y="5393160"/>
            <a:ext cx="1323792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09840" y="642960"/>
            <a:ext cx="13237920" cy="18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09840" y="2597040"/>
            <a:ext cx="645984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292960" y="2597040"/>
            <a:ext cx="645984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09840" y="5393160"/>
            <a:ext cx="645984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92960" y="5393160"/>
            <a:ext cx="645984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09840" y="642960"/>
            <a:ext cx="13237920" cy="18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09840" y="2597040"/>
            <a:ext cx="426240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5720" y="2597040"/>
            <a:ext cx="426240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461600" y="2597040"/>
            <a:ext cx="426240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09840" y="5393160"/>
            <a:ext cx="426240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5985720" y="5393160"/>
            <a:ext cx="426240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10461600" y="5393160"/>
            <a:ext cx="426240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09840" y="642960"/>
            <a:ext cx="13237920" cy="18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09840" y="2597040"/>
            <a:ext cx="13237920" cy="53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09840" y="642960"/>
            <a:ext cx="13237920" cy="18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09840" y="2597040"/>
            <a:ext cx="6459840" cy="53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8292960" y="2597040"/>
            <a:ext cx="6459840" cy="53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09840" y="642960"/>
            <a:ext cx="13237920" cy="18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09840" y="642960"/>
            <a:ext cx="13237920" cy="87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23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09840" y="642960"/>
            <a:ext cx="13237920" cy="18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09840" y="2597040"/>
            <a:ext cx="645984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8292960" y="2597040"/>
            <a:ext cx="6459840" cy="53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09840" y="5393160"/>
            <a:ext cx="645984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09840" y="642960"/>
            <a:ext cx="13237920" cy="18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09840" y="2597040"/>
            <a:ext cx="6459840" cy="53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8292960" y="2597040"/>
            <a:ext cx="645984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92960" y="5393160"/>
            <a:ext cx="645984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09840" y="642960"/>
            <a:ext cx="13237920" cy="18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09840" y="2597040"/>
            <a:ext cx="645984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92960" y="2597040"/>
            <a:ext cx="645984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09840" y="5393160"/>
            <a:ext cx="13237920" cy="25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indent="0">
              <a:spcBef>
                <a:spcPts val="23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1531800"/>
            <a:ext cx="13935240" cy="308304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67680" bIns="676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0560" y="4710240"/>
            <a:ext cx="13935240" cy="10555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67680" bIns="67680" anchor="t">
            <a:normAutofit fontScale="28000"/>
          </a:bodyPr>
          <a:p>
            <a:pPr marL="651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1" marL="65160" indent="-6516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2" marL="65160" indent="-6516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3" marL="65160" indent="-6516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4" marL="65160" indent="-6516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5" marL="65160" indent="-6516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6" marL="65160" indent="-6516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0"/>
            <a:ext cx="16257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-6480" y="8491680"/>
            <a:ext cx="162576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" name="Picture 7" descr="Top_Bar_Background.png"/>
          <p:cNvPicPr/>
          <p:nvPr/>
        </p:nvPicPr>
        <p:blipFill>
          <a:blip r:embed="rId2"/>
          <a:stretch/>
        </p:blipFill>
        <p:spPr>
          <a:xfrm>
            <a:off x="3240" y="0"/>
            <a:ext cx="16257600" cy="9144000"/>
          </a:xfrm>
          <a:prstGeom prst="rect">
            <a:avLst/>
          </a:prstGeom>
          <a:ln w="0">
            <a:noFill/>
          </a:ln>
        </p:spPr>
      </p:pic>
      <p:sp>
        <p:nvSpPr>
          <p:cNvPr id="5" name="TextBox 6"/>
          <p:cNvSpPr/>
          <p:nvPr/>
        </p:nvSpPr>
        <p:spPr>
          <a:xfrm>
            <a:off x="61920" y="68400"/>
            <a:ext cx="53989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PHP Objects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12168360" y="76320"/>
            <a:ext cx="36925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eorgia"/>
              </a:rPr>
              <a:t>WEB APPLICATIONS</a:t>
            </a:r>
            <a:endParaRPr b="0" lang="en-US" sz="17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eorgia"/>
              </a:rPr>
              <a:t>FOR EVERYBODY</a:t>
            </a:r>
            <a:endParaRPr b="0" lang="en-US" sz="1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09840" y="642960"/>
            <a:ext cx="13237920" cy="18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509840" y="2597040"/>
            <a:ext cx="13237920" cy="53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 fontScale="92000"/>
          </a:bodyPr>
          <a:p>
            <a:pPr marL="664200" indent="-494640">
              <a:spcBef>
                <a:spcPts val="233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944640" indent="-495000">
              <a:spcBef>
                <a:spcPts val="233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225440" indent="-495000">
              <a:spcBef>
                <a:spcPts val="233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1505520" indent="-494640">
              <a:spcBef>
                <a:spcPts val="233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1785960" indent="-495000">
              <a:spcBef>
                <a:spcPts val="233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1785960" indent="-495000">
              <a:spcBef>
                <a:spcPts val="233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1785960" indent="-495000">
              <a:spcBef>
                <a:spcPts val="233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0"/>
            <a:ext cx="16257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-6480" y="8491680"/>
            <a:ext cx="162576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7" name="Picture 7" descr="Top_Bar_Background.png"/>
          <p:cNvPicPr/>
          <p:nvPr/>
        </p:nvPicPr>
        <p:blipFill>
          <a:blip r:embed="rId2"/>
          <a:stretch/>
        </p:blipFill>
        <p:spPr>
          <a:xfrm>
            <a:off x="3240" y="0"/>
            <a:ext cx="16257600" cy="9144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6"/>
          <p:cNvSpPr/>
          <p:nvPr/>
        </p:nvSpPr>
        <p:spPr>
          <a:xfrm>
            <a:off x="61920" y="68400"/>
            <a:ext cx="53989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PHP Objects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12168360" y="76320"/>
            <a:ext cx="36925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eorgia"/>
              </a:rPr>
              <a:t>WEB APPLICATIONS</a:t>
            </a:r>
            <a:endParaRPr b="0" lang="en-US" sz="17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eorgia"/>
              </a:rPr>
              <a:t>FOR EVERYBODY</a:t>
            </a:r>
            <a:endParaRPr b="0" lang="en-US" sz="1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s://www.flickr.com/photos/dinnerseries/23570475099" TargetMode="External"/><Relationship Id="rId2" Type="http://schemas.openxmlformats.org/officeDocument/2006/relationships/hyperlink" Target="https://en.wikipedia.org/wiki/Lassie#/media/File:Lassie_and_Tommy_Rettig_1956.JPG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1531800"/>
            <a:ext cx="13935240" cy="308304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67680" bIns="676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cc66"/>
                </a:solidFill>
                <a:latin typeface="Gill Sans"/>
              </a:rPr>
              <a:t>PHP Objects</a:t>
            </a: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849320" y="4710240"/>
            <a:ext cx="12543120" cy="15523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67680" bIns="67680" anchor="t">
            <a:normAutofit fontScale="9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Dr. Charles Severance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www.wa4e.com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3505040" y="7808760"/>
            <a:ext cx="1773000" cy="6019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3794040" y="7551720"/>
            <a:ext cx="989028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00"/>
                </a:solidFill>
                <a:latin typeface="Gill Sans"/>
              </a:rPr>
              <a:t>http://www.wa4e.com/code/objects.zip</a:t>
            </a: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673560" y="1232640"/>
            <a:ext cx="10097280" cy="49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?php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date_default_timezone_set('America/New_York')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nextWeek = </a:t>
            </a:r>
            <a:r>
              <a:rPr b="0" lang="en-US" sz="25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time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() + (7 * 24 * 60 * 60)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echo 'Now:       '. </a:t>
            </a:r>
            <a:r>
              <a:rPr b="0" lang="en-US" sz="25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date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('Y-m-d') ."\n"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echo 'Next Week: '. </a:t>
            </a:r>
            <a:r>
              <a:rPr b="0" lang="en-US" sz="25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date('Y-m-d', $nextWeek)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."\n"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echo("=====\n")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now = </a:t>
            </a:r>
            <a:r>
              <a:rPr b="0" lang="en-US" sz="25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new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DateTime()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nextWeek = </a:t>
            </a:r>
            <a:r>
              <a:rPr b="0" lang="en-US" sz="25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new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DateTime('today +1 week')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echo 'Now:       '. $now</a:t>
            </a:r>
            <a:r>
              <a:rPr b="0" lang="en-US" sz="25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-&gt;format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('Y-m-d') ."\n"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echo 'Next Week: '. $nextWeek</a:t>
            </a:r>
            <a:r>
              <a:rPr b="0" lang="en-US" sz="25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-&gt;format('Y-m-d')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."\n"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1575800" y="5571720"/>
            <a:ext cx="3681360" cy="17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Now:       2013-09-25</a:t>
            </a:r>
            <a:endParaRPr b="0" lang="en-US" sz="2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Next Week: 2013-10-02</a:t>
            </a:r>
            <a:endParaRPr b="0" lang="en-US" sz="2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=====</a:t>
            </a:r>
            <a:endParaRPr b="0" lang="en-US" sz="2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Now:       2013-09-25</a:t>
            </a:r>
            <a:endParaRPr b="0" lang="en-US" sz="2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Next Week: 2013-10-02</a:t>
            </a:r>
            <a:endParaRPr b="0" lang="en-US" sz="2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386640" y="7467480"/>
            <a:ext cx="273852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Gill Sans"/>
              </a:rPr>
              <a:t>date.php</a:t>
            </a:r>
            <a:endParaRPr b="0" lang="en-US" sz="4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1329920" y="5410080"/>
            <a:ext cx="426744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09840" y="1531800"/>
            <a:ext cx="13228560" cy="263376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67680" bIns="676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cc66"/>
                </a:solidFill>
                <a:latin typeface="Gill Sans"/>
              </a:rPr>
              <a:t>Creating Objects in PHP</a:t>
            </a: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"/>
          <p:cNvSpPr/>
          <p:nvPr/>
        </p:nvSpPr>
        <p:spPr>
          <a:xfrm>
            <a:off x="1201680" y="1262160"/>
            <a:ext cx="14801760" cy="60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?php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</a:t>
            </a:r>
            <a:r>
              <a:rPr b="0" lang="en-US" sz="25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chuck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= array("fullname" =&gt; "Chuck Severance", 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'room' =&gt; '4429NQ')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</a:t>
            </a:r>
            <a:r>
              <a:rPr b="0" lang="en-US" sz="25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colleen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= array("familyname" =&gt; "van Lent",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'givenname' =&gt; 'Colleen', 'room' =&gt; '3439NQ')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function </a:t>
            </a:r>
            <a:r>
              <a:rPr b="0" lang="en-US" sz="2500" spc="-1" strike="noStrike">
                <a:solidFill>
                  <a:srgbClr val="ff7f00"/>
                </a:solidFill>
                <a:latin typeface="Courier New"/>
                <a:ea typeface="ＭＳ Ｐゴシック"/>
              </a:rPr>
              <a:t>get_person_name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($person) {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if ( isset($person['fullname']) ) return $person['fullname']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if ( isset($person['familyname']) &amp;&amp; isset($person['givenname']) ) {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return $person['givenname'] . ' ' . $person['familyname'] 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return false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print </a:t>
            </a:r>
            <a:r>
              <a:rPr b="0" lang="en-US" sz="2500" spc="-1" strike="noStrike">
                <a:solidFill>
                  <a:srgbClr val="ff7f00"/>
                </a:solidFill>
                <a:latin typeface="Courier New"/>
                <a:ea typeface="ＭＳ Ｐゴシック"/>
              </a:rPr>
              <a:t>get_person_name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($</a:t>
            </a:r>
            <a:r>
              <a:rPr b="0" lang="en-US" sz="25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chuck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) . "\n"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print </a:t>
            </a:r>
            <a:r>
              <a:rPr b="0" lang="en-US" sz="2500" spc="-1" strike="noStrike">
                <a:solidFill>
                  <a:srgbClr val="ff7f00"/>
                </a:solidFill>
                <a:latin typeface="Courier New"/>
                <a:ea typeface="ＭＳ Ｐゴシック"/>
              </a:rPr>
              <a:t>get_person_name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($</a:t>
            </a:r>
            <a:r>
              <a:rPr b="0" lang="en-US" sz="25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colleen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) . "\n"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11654640" y="5650200"/>
            <a:ext cx="329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Chuck Severance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Colleen van Lent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12000240" y="1371600"/>
            <a:ext cx="343656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Gill Sans"/>
              </a:rPr>
              <a:t>nonobj.php</a:t>
            </a:r>
            <a:endParaRPr b="0" lang="en-US" sz="4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1329920" y="5410080"/>
            <a:ext cx="426744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1042920" y="990720"/>
            <a:ext cx="13846320" cy="78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&lt;?php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class </a:t>
            </a:r>
            <a:r>
              <a:rPr b="0" lang="en-US" sz="20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Person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{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public $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ullname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= false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public $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givenname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= false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public $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amilyname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= false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public $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oom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= false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function </a:t>
            </a:r>
            <a:r>
              <a:rPr b="0" lang="en-US" sz="20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get_name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() {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if ( $this-&gt;fullname !== false ) return $this-&gt;fullname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if ( $this-&gt;familyname !== false &amp;&amp; $this-&gt;givenname !== false ) {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      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return $this-&gt;givenname . ' ' . $this-&gt;familyname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return false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chuck = new </a:t>
            </a:r>
            <a:r>
              <a:rPr b="0" lang="en-US" sz="20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Person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()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chuck-&gt;fullname = "Chuck Severance"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chuck-&gt;room = "4429NQ"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colleen = new </a:t>
            </a:r>
            <a:r>
              <a:rPr b="0" lang="en-US" sz="20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Person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()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colleen-&gt;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amilyname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= 'van Lent';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colleen-&gt;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givenname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= 'Colleen'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colleen-&gt;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oom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= '3439NQ'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print $chuck-&gt;</a:t>
            </a:r>
            <a:r>
              <a:rPr b="0" lang="en-US" sz="20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get_name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() . "\n"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print $colleen-&gt;</a:t>
            </a:r>
            <a:r>
              <a:rPr b="0" lang="en-US" sz="20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get_name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() . "\n"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11654640" y="5649120"/>
            <a:ext cx="329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Chuck Severance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Colleen van Lent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1948400" y="1371600"/>
            <a:ext cx="354024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Gill Sans"/>
              </a:rPr>
              <a:t>withobj.php</a:t>
            </a:r>
            <a:endParaRPr b="0" lang="en-US" sz="4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1329920" y="5410080"/>
            <a:ext cx="426744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09840" y="1531440"/>
            <a:ext cx="13228560" cy="249876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67680" bIns="676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cc66"/>
                </a:solidFill>
                <a:latin typeface="Gill Sans"/>
              </a:rPr>
              <a:t>Object Oriented Libraries</a:t>
            </a: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9840" y="642960"/>
            <a:ext cx="13237920" cy="18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Two New Operators</a:t>
            </a:r>
            <a:endParaRPr b="0" lang="en-US" sz="7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09840" y="2596680"/>
            <a:ext cx="13237920" cy="427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marL="722160" indent="-537840">
              <a:spcBef>
                <a:spcPts val="233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ccess “static item” in a clas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789120">
              <a:spcBef>
                <a:spcPts val="23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ill Sans"/>
              </a:rPr>
              <a:t>echo DateTime</a:t>
            </a:r>
            <a:r>
              <a:rPr b="0" lang="en-US" sz="3600" spc="-1" strike="noStrike">
                <a:solidFill>
                  <a:srgbClr val="ff00ff"/>
                </a:solidFill>
                <a:latin typeface="Gill Sans"/>
              </a:rPr>
              <a:t>::</a:t>
            </a:r>
            <a:r>
              <a:rPr b="0" lang="en-US" sz="3600" spc="-1" strike="noStrike">
                <a:solidFill>
                  <a:srgbClr val="ffff00"/>
                </a:solidFill>
                <a:latin typeface="Gill Sans"/>
              </a:rPr>
              <a:t>RFC822."\n"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722160" indent="-537840">
              <a:spcBef>
                <a:spcPts val="233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ccess item in an objec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789120">
              <a:spcBef>
                <a:spcPts val="23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ill Sans"/>
              </a:rPr>
              <a:t>echo $z</a:t>
            </a:r>
            <a:r>
              <a:rPr b="0" lang="en-US" sz="3600" spc="-1" strike="noStrike">
                <a:solidFill>
                  <a:srgbClr val="ff00ff"/>
                </a:solidFill>
                <a:latin typeface="Gill Sans"/>
              </a:rPr>
              <a:t>-&gt;</a:t>
            </a:r>
            <a:r>
              <a:rPr b="0" lang="en-US" sz="3600" spc="-1" strike="noStrike">
                <a:solidFill>
                  <a:srgbClr val="ffff00"/>
                </a:solidFill>
                <a:latin typeface="Gill Sans"/>
              </a:rPr>
              <a:t>format('Y-m-d')."\n"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rcRect l="0" t="0" r="0" b="25765"/>
          <a:stretch/>
        </p:blipFill>
        <p:spPr>
          <a:xfrm>
            <a:off x="1825560" y="779400"/>
            <a:ext cx="10517400" cy="7178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8389080" y="2308320"/>
            <a:ext cx="5555880" cy="1234800"/>
          </a:xfrm>
          <a:prstGeom prst="rect">
            <a:avLst/>
          </a:prstGeom>
          <a:solidFill>
            <a:srgbClr val="000000"/>
          </a:solidFill>
          <a:ln w="228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echo </a:t>
            </a:r>
            <a:r>
              <a:rPr b="0" lang="en-US" sz="27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DateTime</a:t>
            </a:r>
            <a:r>
              <a:rPr b="0" lang="en-US" sz="27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::</a:t>
            </a: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RFC822."\n";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D, d M y H:i:s O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Line 3"/>
          <p:cNvSpPr/>
          <p:nvPr/>
        </p:nvSpPr>
        <p:spPr>
          <a:xfrm flipV="1">
            <a:off x="7084440" y="1998360"/>
            <a:ext cx="718920" cy="507960"/>
          </a:xfrm>
          <a:prstGeom prst="line">
            <a:avLst/>
          </a:prstGeom>
          <a:ln w="88920">
            <a:solidFill>
              <a:srgbClr val="ff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rcRect l="0" t="0" r="0" b="33821"/>
          <a:stretch/>
        </p:blipFill>
        <p:spPr>
          <a:xfrm>
            <a:off x="1160640" y="779400"/>
            <a:ext cx="11791800" cy="7178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"/>
          <p:cNvSpPr/>
          <p:nvPr/>
        </p:nvSpPr>
        <p:spPr>
          <a:xfrm>
            <a:off x="8402040" y="2308320"/>
            <a:ext cx="6584400" cy="1234800"/>
          </a:xfrm>
          <a:prstGeom prst="rect">
            <a:avLst/>
          </a:prstGeom>
          <a:solidFill>
            <a:srgbClr val="000000"/>
          </a:solidFill>
          <a:ln w="228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x = new DateTime();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y = new DateTime('now');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z = new DateTime('2012-01-31');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Line 3"/>
          <p:cNvSpPr/>
          <p:nvPr/>
        </p:nvSpPr>
        <p:spPr>
          <a:xfrm flipV="1">
            <a:off x="3714840" y="4738320"/>
            <a:ext cx="3759120" cy="725400"/>
          </a:xfrm>
          <a:prstGeom prst="line">
            <a:avLst/>
          </a:prstGeom>
          <a:ln w="88920">
            <a:solidFill>
              <a:srgbClr val="ff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rcRect l="0" t="0" r="0" b="34964"/>
          <a:stretch/>
        </p:blipFill>
        <p:spPr>
          <a:xfrm>
            <a:off x="1160640" y="903240"/>
            <a:ext cx="11791800" cy="70549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6926400" y="1430280"/>
            <a:ext cx="8561160" cy="5851440"/>
          </a:xfrm>
          <a:prstGeom prst="rect">
            <a:avLst/>
          </a:prstGeom>
          <a:solidFill>
            <a:srgbClr val="000000"/>
          </a:solidFill>
          <a:ln w="228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x = new DateTime('1999-04-31')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oops = </a:t>
            </a:r>
            <a:r>
              <a:rPr b="0" lang="en-US" sz="21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DateTime::</a:t>
            </a: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getLastErrors()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print_r($oops);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Array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(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[warning_count] =&gt; 1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[warnings] =&gt; Array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(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    </a:t>
            </a: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[11] =&gt; The parsed date was invalid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[error_count] =&gt; 0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[errors] =&gt; Array 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</a:t>
            </a: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(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   </a:t>
            </a: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Line 3"/>
          <p:cNvSpPr/>
          <p:nvPr/>
        </p:nvSpPr>
        <p:spPr>
          <a:xfrm flipV="1">
            <a:off x="3268080" y="6654600"/>
            <a:ext cx="3313080" cy="236520"/>
          </a:xfrm>
          <a:prstGeom prst="line">
            <a:avLst/>
          </a:prstGeom>
          <a:ln w="88920">
            <a:solidFill>
              <a:srgbClr val="ff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rcRect l="0" t="36303" r="0" b="0"/>
          <a:stretch/>
        </p:blipFill>
        <p:spPr>
          <a:xfrm>
            <a:off x="1204920" y="914400"/>
            <a:ext cx="11791800" cy="69087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9164880" y="5411520"/>
            <a:ext cx="6584400" cy="2057760"/>
          </a:xfrm>
          <a:prstGeom prst="rect">
            <a:avLst/>
          </a:prstGeom>
          <a:solidFill>
            <a:srgbClr val="000000"/>
          </a:solidFill>
          <a:ln w="228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z = new DateTime('2012-01-31');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echo $z-&gt;format('Y-m-d')."\n";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2012-01-31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Line 3"/>
          <p:cNvSpPr/>
          <p:nvPr/>
        </p:nvSpPr>
        <p:spPr>
          <a:xfrm>
            <a:off x="5881680" y="6265800"/>
            <a:ext cx="2924280" cy="338040"/>
          </a:xfrm>
          <a:prstGeom prst="line">
            <a:avLst/>
          </a:prstGeom>
          <a:ln w="88920">
            <a:solidFill>
              <a:srgbClr val="ff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09840" y="642960"/>
            <a:ext cx="13237920" cy="18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PHP =&gt; Object Oriented</a:t>
            </a:r>
            <a:endParaRPr b="0" lang="en-US" sz="7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09840" y="2597040"/>
            <a:ext cx="13237920" cy="36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marL="757080" indent="-539640">
              <a:spcBef>
                <a:spcPts val="2324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With PHP 5, an object oriented approach is the preferred pattern.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 marL="757080" indent="-539640">
              <a:spcBef>
                <a:spcPts val="2324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Libraries are evolving toward OOP.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rcRect l="0" t="42546" r="0" b="0"/>
          <a:stretch/>
        </p:blipFill>
        <p:spPr>
          <a:xfrm>
            <a:off x="2103480" y="914400"/>
            <a:ext cx="11791800" cy="6230880"/>
          </a:xfrm>
          <a:prstGeom prst="rect">
            <a:avLst/>
          </a:prstGeom>
          <a:ln w="0">
            <a:noFill/>
          </a:ln>
        </p:spPr>
      </p:pic>
      <p:sp>
        <p:nvSpPr>
          <p:cNvPr id="148" name="Line 2"/>
          <p:cNvSpPr/>
          <p:nvPr/>
        </p:nvSpPr>
        <p:spPr>
          <a:xfrm>
            <a:off x="3643200" y="6796080"/>
            <a:ext cx="812880" cy="754200"/>
          </a:xfrm>
          <a:prstGeom prst="line">
            <a:avLst/>
          </a:prstGeom>
          <a:ln w="88920">
            <a:solidFill>
              <a:srgbClr val="ff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5469480" y="7833600"/>
            <a:ext cx="1133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ill Sans"/>
                <a:ea typeface="ＭＳ Ｐゴシック"/>
              </a:rPr>
              <a:t>http://php.net/manual/en/language.oop5.magic.ph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Line 4"/>
          <p:cNvSpPr/>
          <p:nvPr/>
        </p:nvSpPr>
        <p:spPr>
          <a:xfrm flipV="1">
            <a:off x="6900120" y="2238120"/>
            <a:ext cx="2343240" cy="649080"/>
          </a:xfrm>
          <a:prstGeom prst="line">
            <a:avLst/>
          </a:prstGeom>
          <a:ln w="88920">
            <a:solidFill>
              <a:srgbClr val="ff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69720" y="583920"/>
            <a:ext cx="11907720" cy="40417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67680" bIns="676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cc66"/>
                </a:solidFill>
                <a:latin typeface="Gill Sans"/>
              </a:rPr>
              <a:t>Object Life Cycle in PHP</a:t>
            </a: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50560" y="4710240"/>
            <a:ext cx="13935240" cy="10555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67680" bIns="6768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ill Sans"/>
              </a:rPr>
              <a:t>http://en.wikipedia.org/wiki/Constructor_(computer_science)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09840" y="642960"/>
            <a:ext cx="13237920" cy="18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Object Life Cycle</a:t>
            </a:r>
            <a:endParaRPr b="0" lang="en-US" sz="7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09840" y="2597040"/>
            <a:ext cx="13237920" cy="53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 fontScale="95000"/>
          </a:bodyPr>
          <a:p>
            <a:pPr marL="718920" indent="-512640">
              <a:spcBef>
                <a:spcPts val="2262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Objects are created, used and discarded.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718920" indent="-512640">
              <a:spcBef>
                <a:spcPts val="2262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We have special blocks of code (methods) that get called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2" marL="785520" indent="0">
              <a:spcBef>
                <a:spcPts val="22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-  At the moment of creation (</a:t>
            </a:r>
            <a:r>
              <a:rPr b="0" lang="en-US" sz="3800" spc="-1" strike="noStrike">
                <a:solidFill>
                  <a:srgbClr val="ffff00"/>
                </a:solidFill>
                <a:latin typeface="Gill Sans"/>
              </a:rPr>
              <a:t>constructor</a:t>
            </a: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)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2" marL="785520" indent="0">
              <a:spcBef>
                <a:spcPts val="22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-  At the moment of destruction (</a:t>
            </a:r>
            <a:r>
              <a:rPr b="0" lang="en-US" sz="3800" spc="-1" strike="noStrike">
                <a:solidFill>
                  <a:srgbClr val="ffff00"/>
                </a:solidFill>
                <a:latin typeface="Gill Sans"/>
              </a:rPr>
              <a:t>destructor</a:t>
            </a: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)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718920" indent="-512640">
              <a:spcBef>
                <a:spcPts val="2262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Constructors are used a lot.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718920" indent="-512640">
              <a:spcBef>
                <a:spcPts val="2262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Destructors are seldom used.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9840" y="642960"/>
            <a:ext cx="13237920" cy="18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Constructor</a:t>
            </a:r>
            <a:endParaRPr b="0" lang="en-US" sz="7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25760" y="2540160"/>
            <a:ext cx="13237920" cy="31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marL="217440" indent="0">
              <a:spcBef>
                <a:spcPts val="22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The primary purpose of the constructor is to set up some instance variables to have the proper initial values when the object is created.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1791000" y="1163880"/>
            <a:ext cx="5525280" cy="72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class </a:t>
            </a:r>
            <a:r>
              <a:rPr b="0" lang="en-US" sz="25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PartyAnimal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{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function </a:t>
            </a:r>
            <a:r>
              <a:rPr b="0" lang="en-US" sz="25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__construct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() {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  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echo("Constructed\n")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function </a:t>
            </a:r>
            <a:r>
              <a:rPr b="0" lang="en-US" sz="2500" spc="-1" strike="noStrike">
                <a:solidFill>
                  <a:srgbClr val="ff7f00"/>
                </a:solidFill>
                <a:latin typeface="Courier New"/>
                <a:ea typeface="ＭＳ Ｐゴシック"/>
              </a:rPr>
              <a:t>something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() {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echo("Something\n")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function </a:t>
            </a:r>
            <a:r>
              <a:rPr b="0" lang="en-US" sz="25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__destruct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() {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echo("Destructed\n")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echo("--One\n")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x = </a:t>
            </a:r>
            <a:r>
              <a:rPr b="0" lang="en-US" sz="25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new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</a:t>
            </a:r>
            <a:r>
              <a:rPr b="0" lang="en-US" sz="25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PartyAnimal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()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echo("--Two\n")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y = </a:t>
            </a:r>
            <a:r>
              <a:rPr b="0" lang="en-US" sz="25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new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</a:t>
            </a:r>
            <a:r>
              <a:rPr b="0" lang="en-US" sz="25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PartyAnimal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()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echo("--Three\n")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x-&gt;</a:t>
            </a:r>
            <a:r>
              <a:rPr b="0" lang="en-US" sz="2500" spc="-1" strike="noStrike">
                <a:solidFill>
                  <a:srgbClr val="ff7f00"/>
                </a:solidFill>
                <a:latin typeface="Courier New"/>
                <a:ea typeface="ＭＳ Ｐゴシック"/>
              </a:rPr>
              <a:t>something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()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echo("--The End?\n")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1732760" y="3470040"/>
            <a:ext cx="251532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--On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Constructe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--Two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Constructe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--Thre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Something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--The End?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Destructe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Destructe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12858120" y="1143000"/>
            <a:ext cx="294300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Gill Sans"/>
              </a:rPr>
              <a:t>party.php</a:t>
            </a:r>
            <a:endParaRPr b="0" lang="en-US" sz="4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1329920" y="3200400"/>
            <a:ext cx="4267440" cy="5105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09840" y="642960"/>
            <a:ext cx="13228560" cy="18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Many </a:t>
            </a:r>
            <a:r>
              <a:rPr b="0" lang="en-US" sz="7500" spc="-1" strike="noStrike">
                <a:solidFill>
                  <a:srgbClr val="ff7f00"/>
                </a:solidFill>
                <a:latin typeface="Gill Sans"/>
              </a:rPr>
              <a:t>Instances</a:t>
            </a:r>
            <a:endParaRPr b="0" lang="en-US" sz="7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09840" y="2597040"/>
            <a:ext cx="13237920" cy="53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marL="757080" indent="-539640">
              <a:spcBef>
                <a:spcPts val="2262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We can create </a:t>
            </a:r>
            <a:r>
              <a:rPr b="0" lang="en-US" sz="3800" spc="-1" strike="noStrike">
                <a:solidFill>
                  <a:srgbClr val="ff7f00"/>
                </a:solidFill>
                <a:latin typeface="Gill Sans"/>
              </a:rPr>
              <a:t>lots of objects</a:t>
            </a: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 - the class is the template for the object.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757080" indent="-539640">
              <a:spcBef>
                <a:spcPts val="2262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We can store each </a:t>
            </a:r>
            <a:r>
              <a:rPr b="0" lang="en-US" sz="3800" spc="-1" strike="noStrike">
                <a:solidFill>
                  <a:srgbClr val="ff7f00"/>
                </a:solidFill>
                <a:latin typeface="Gill Sans"/>
              </a:rPr>
              <a:t>distinct object</a:t>
            </a: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 in its own variable.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757080" indent="-539640">
              <a:spcBef>
                <a:spcPts val="2262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We call this having multiple </a:t>
            </a:r>
            <a:r>
              <a:rPr b="0" lang="en-US" sz="3800" spc="-1" strike="noStrike">
                <a:solidFill>
                  <a:srgbClr val="ff7f00"/>
                </a:solidFill>
                <a:latin typeface="Gill Sans"/>
              </a:rPr>
              <a:t>instances</a:t>
            </a: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 of the same class.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757080" indent="-539640">
              <a:spcBef>
                <a:spcPts val="2262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Each </a:t>
            </a:r>
            <a:r>
              <a:rPr b="0" lang="en-US" sz="3800" spc="-1" strike="noStrike">
                <a:solidFill>
                  <a:srgbClr val="ff7f00"/>
                </a:solidFill>
                <a:latin typeface="Gill Sans"/>
              </a:rPr>
              <a:t>instance</a:t>
            </a: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 has its own copy of the </a:t>
            </a:r>
            <a:r>
              <a:rPr b="0" lang="en-US" sz="3800" spc="-1" strike="noStrike">
                <a:solidFill>
                  <a:srgbClr val="ffff00"/>
                </a:solidFill>
                <a:latin typeface="Gill Sans"/>
              </a:rPr>
              <a:t>instance variables</a:t>
            </a: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.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12600000" y="914400"/>
            <a:ext cx="2844720" cy="18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1779480" y="1643760"/>
            <a:ext cx="106995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class Hello {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protected $</a:t>
            </a:r>
            <a:r>
              <a:rPr b="0" lang="en-US" sz="27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lang</a:t>
            </a: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; // Only accessible in the class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function </a:t>
            </a:r>
            <a:r>
              <a:rPr b="0" lang="en-US" sz="27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__construct</a:t>
            </a: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($</a:t>
            </a:r>
            <a:r>
              <a:rPr b="0" lang="en-US" sz="2700" spc="-1" strike="noStrike">
                <a:solidFill>
                  <a:srgbClr val="ff7f00"/>
                </a:solidFill>
                <a:latin typeface="Courier New"/>
                <a:ea typeface="ＭＳ Ｐゴシック"/>
              </a:rPr>
              <a:t>lang</a:t>
            </a: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) {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</a:t>
            </a:r>
            <a:r>
              <a:rPr b="0" lang="en-US" sz="27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this-&gt;lang</a:t>
            </a: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= $</a:t>
            </a:r>
            <a:r>
              <a:rPr b="0" lang="en-US" sz="2700" spc="-1" strike="noStrike">
                <a:solidFill>
                  <a:srgbClr val="ff7f00"/>
                </a:solidFill>
                <a:latin typeface="Courier New"/>
                <a:ea typeface="ＭＳ Ｐゴシック"/>
              </a:rPr>
              <a:t>lang</a:t>
            </a: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;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function </a:t>
            </a:r>
            <a:r>
              <a:rPr b="0" lang="en-US" sz="27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greet</a:t>
            </a: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() {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if ( $</a:t>
            </a:r>
            <a:r>
              <a:rPr b="0" lang="en-US" sz="27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this-&gt;lang</a:t>
            </a: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== 'fr' ) return 'Bonjour';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if ( $</a:t>
            </a:r>
            <a:r>
              <a:rPr b="0" lang="en-US" sz="27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this-&gt;lang</a:t>
            </a: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== 'es' ) return 'Hola';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return 'Hello';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hi = </a:t>
            </a:r>
            <a:r>
              <a:rPr b="0" lang="en-US" sz="27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new</a:t>
            </a: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Hello('es');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echo </a:t>
            </a:r>
            <a:r>
              <a:rPr b="0" lang="en-US" sz="27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$hi-&gt;greet()</a:t>
            </a:r>
            <a:r>
              <a:rPr b="0" lang="en-US" sz="27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."\n";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1696760" y="5641560"/>
            <a:ext cx="10155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ff00"/>
                </a:solidFill>
                <a:latin typeface="Courier New Bold"/>
                <a:ea typeface="ＭＳ Ｐゴシック"/>
              </a:rPr>
              <a:t>Hola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13022280" y="1219320"/>
            <a:ext cx="285588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Gill Sans"/>
              </a:rPr>
              <a:t>hello.php</a:t>
            </a:r>
            <a:endParaRPr b="0" lang="en-US" sz="4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1329920" y="5410080"/>
            <a:ext cx="426744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9840" y="642960"/>
            <a:ext cx="13228560" cy="18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Definitions</a:t>
            </a:r>
            <a:endParaRPr b="0" lang="en-US" sz="7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09840" y="2597040"/>
            <a:ext cx="13237920" cy="53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marL="757080" indent="-539640">
              <a:spcBef>
                <a:spcPts val="2262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Class </a:t>
            </a: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- a template - Dog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757080" indent="-539640">
              <a:spcBef>
                <a:spcPts val="2262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Method or Message </a:t>
            </a: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- A defined capability of a class - bark()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757080" indent="-539640">
              <a:spcBef>
                <a:spcPts val="2262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Object or Instance </a:t>
            </a: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- A particular instance of a class - Lassie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757080" indent="-539640">
              <a:spcBef>
                <a:spcPts val="2262"/>
              </a:spcBef>
              <a:buClr>
                <a:srgbClr val="ff7f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7f00"/>
                </a:solidFill>
                <a:latin typeface="Gill Sans"/>
              </a:rPr>
              <a:t>Constructor</a:t>
            </a: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 - A method which is called when the instance / object is created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2600000" y="914400"/>
            <a:ext cx="2844720" cy="18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1531800"/>
            <a:ext cx="13935240" cy="308304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67680" bIns="676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cc66"/>
                </a:solidFill>
                <a:latin typeface="Gill Sans"/>
              </a:rPr>
              <a:t>Object Inheritance in PHP</a:t>
            </a: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169720" y="4709880"/>
            <a:ext cx="11907720" cy="138564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67680" bIns="6768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ttp://www.php.net/manual/en/language.oop5.inheritance.php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9840" y="642960"/>
            <a:ext cx="13228560" cy="18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Inheritance</a:t>
            </a:r>
            <a:endParaRPr b="0" lang="en-US" sz="7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9840" y="2597040"/>
            <a:ext cx="13237920" cy="53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marL="757080" indent="-539640">
              <a:spcBef>
                <a:spcPts val="2262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When we make a new class we can reuse an existing class and </a:t>
            </a:r>
            <a:r>
              <a:rPr b="0" lang="en-US" sz="3800" spc="-1" strike="noStrike">
                <a:solidFill>
                  <a:srgbClr val="ff7f00"/>
                </a:solidFill>
                <a:latin typeface="Gill Sans"/>
              </a:rPr>
              <a:t>inherit</a:t>
            </a: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 all the capabilities of an existing class and then add our own little bit to make our new class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757080" indent="-539640">
              <a:spcBef>
                <a:spcPts val="2262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Another form of store and reuse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757080" indent="-539640">
              <a:spcBef>
                <a:spcPts val="2262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Write once - reuse many times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757080" indent="-539640">
              <a:spcBef>
                <a:spcPts val="2262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The new class (child) has all the capabilities of the old class (parent) - and then some more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97200" y="642960"/>
            <a:ext cx="12866400" cy="229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cc66"/>
                </a:solidFill>
                <a:latin typeface="Gill Sans"/>
              </a:rPr>
              <a:t>Object Oriented Programming (OOP)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2170080" y="3081240"/>
            <a:ext cx="11714040" cy="33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Object-oriented programming (OOP) is a programming paradigm that represents concepts as "objects" that have </a:t>
            </a:r>
            <a:r>
              <a:rPr b="0" lang="en-US" sz="3700" spc="-1" strike="noStrike">
                <a:solidFill>
                  <a:srgbClr val="ff00ff"/>
                </a:solidFill>
                <a:latin typeface="Gill Sans"/>
                <a:ea typeface="ＭＳ Ｐゴシック"/>
              </a:rPr>
              <a:t>data fields</a:t>
            </a:r>
            <a:r>
              <a:rPr b="0" lang="en-US" sz="3700" spc="-1" strike="noStrike">
                <a:solidFill>
                  <a:srgbClr val="ffff00"/>
                </a:solidFill>
                <a:latin typeface="Gill Sans"/>
                <a:ea typeface="ＭＳ Ｐゴシック"/>
              </a:rPr>
              <a:t> </a:t>
            </a:r>
            <a:r>
              <a:rPr b="0" lang="en-US" sz="37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(attributes that describe the object) and associated procedures known as </a:t>
            </a:r>
            <a:r>
              <a:rPr b="0" lang="en-US" sz="3700" spc="-1" strike="noStrike">
                <a:solidFill>
                  <a:srgbClr val="ff00ff"/>
                </a:solidFill>
                <a:latin typeface="Gill Sans"/>
                <a:ea typeface="ＭＳ Ｐゴシック"/>
              </a:rPr>
              <a:t>methods</a:t>
            </a:r>
            <a:r>
              <a:rPr b="0" lang="en-US" sz="37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. Objects, which are usually instances of classes, are used to interact with one another to design applications and computer programs</a:t>
            </a:r>
            <a:r>
              <a:rPr b="0" lang="en-US" sz="3700" spc="-1" strike="noStrike">
                <a:solidFill>
                  <a:srgbClr val="ffff00"/>
                </a:solidFill>
                <a:latin typeface="Gill Sans"/>
                <a:ea typeface="ＭＳ Ｐゴシック"/>
              </a:rPr>
              <a:t>.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2823840" y="7774560"/>
            <a:ext cx="1058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http://en.wikipedia.org/wiki/Object-oriented_programming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53960" y="642960"/>
            <a:ext cx="10537920" cy="18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Terminology: </a:t>
            </a:r>
            <a:r>
              <a:rPr b="0" lang="en-US" sz="7500" spc="-1" strike="noStrike">
                <a:solidFill>
                  <a:srgbClr val="ff7f00"/>
                </a:solidFill>
                <a:latin typeface="Gill Sans"/>
              </a:rPr>
              <a:t>Inheritance</a:t>
            </a:r>
            <a:endParaRPr b="0" lang="en-US" sz="7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81040" y="7622280"/>
            <a:ext cx="1058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http://en.wikipedia.org/wiki/Object-oriented_programming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625760" y="3624120"/>
            <a:ext cx="1325700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“</a:t>
            </a: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Subclasses” are more specialized versions of a class, which </a:t>
            </a:r>
            <a:r>
              <a:rPr b="0" lang="en-US" sz="3700" spc="-1" strike="noStrike">
                <a:solidFill>
                  <a:srgbClr val="ff7f00"/>
                </a:solidFill>
                <a:latin typeface="Gill Sans"/>
              </a:rPr>
              <a:t>inherit</a:t>
            </a: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 attributes and behaviors from their parent classes, and can introduce their own.  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12600000" y="914400"/>
            <a:ext cx="2844720" cy="18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1537920" y="1202400"/>
            <a:ext cx="9678240" cy="64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class 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ello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{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protected $lang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function __construct($lang) { ... }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function </a:t>
            </a:r>
            <a:r>
              <a:rPr b="0" lang="en-US" sz="25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greet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() { ... }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class </a:t>
            </a:r>
            <a:r>
              <a:rPr b="0" lang="en-US" sz="25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Social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</a:t>
            </a:r>
            <a:r>
              <a:rPr b="0" lang="en-US" sz="25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extends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ello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{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function </a:t>
            </a:r>
            <a:r>
              <a:rPr b="0" lang="en-US" sz="2500" spc="-1" strike="noStrike">
                <a:solidFill>
                  <a:srgbClr val="ff7f00"/>
                </a:solidFill>
                <a:latin typeface="Courier New"/>
                <a:ea typeface="ＭＳ Ｐゴシック"/>
              </a:rPr>
              <a:t>bye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() {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if ( $this-&gt;lang == 'fr' ) return 'Au revoir'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if ( $this-&gt;lang == 'es' ) return 'Adios'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return 'goodbye'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hi = new </a:t>
            </a:r>
            <a:r>
              <a:rPr b="0" lang="en-US" sz="25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Social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('es')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echo $hi-&gt;</a:t>
            </a:r>
            <a:r>
              <a:rPr b="0" lang="en-US" sz="2500" spc="-1" strike="noStrike">
                <a:solidFill>
                  <a:srgbClr val="00ffff"/>
                </a:solidFill>
                <a:latin typeface="Courier New"/>
                <a:ea typeface="ＭＳ Ｐゴシック"/>
              </a:rPr>
              <a:t>greet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()."\n"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echo $hi-&gt;</a:t>
            </a:r>
            <a:r>
              <a:rPr b="0" lang="en-US" sz="2500" spc="-1" strike="noStrike">
                <a:solidFill>
                  <a:srgbClr val="ff7f00"/>
                </a:solidFill>
                <a:latin typeface="Courier New"/>
                <a:ea typeface="ＭＳ Ｐゴシック"/>
              </a:rPr>
              <a:t>bye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()."\n"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11588400" y="5568480"/>
            <a:ext cx="141048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Hola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Adios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12022560" y="1143000"/>
            <a:ext cx="389988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Gill Sans"/>
              </a:rPr>
              <a:t>goodbye.php</a:t>
            </a:r>
            <a:endParaRPr b="0" lang="en-US" sz="4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1329920" y="5410080"/>
            <a:ext cx="426744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09840" y="642960"/>
            <a:ext cx="13228560" cy="18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Definitions</a:t>
            </a:r>
            <a:endParaRPr b="0" lang="en-US" sz="7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839960" y="2597040"/>
            <a:ext cx="12568320" cy="53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 fontScale="91000"/>
          </a:bodyPr>
          <a:p>
            <a:pPr marL="687600" indent="-489600">
              <a:spcBef>
                <a:spcPts val="233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ass 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- a template - Dog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687600" indent="-489600">
              <a:spcBef>
                <a:spcPts val="233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Method or Message 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- A defined capability of a class - bark(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687600" indent="-489600">
              <a:spcBef>
                <a:spcPts val="233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Object or Instance 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- A particular instance of a class - Lassi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687600" indent="-489600">
              <a:spcBef>
                <a:spcPts val="233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onstructor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 - A method which is called when the instance / object is created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687600" indent="-489600">
              <a:spcBef>
                <a:spcPts val="2339"/>
              </a:spcBef>
              <a:buClr>
                <a:srgbClr val="ff7f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f00"/>
                </a:solidFill>
                <a:latin typeface="Gill Sans"/>
              </a:rPr>
              <a:t>Inheritance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 - the ability to take a class and extend it to make a new clas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12600000" y="914400"/>
            <a:ext cx="2844720" cy="18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9840" y="642960"/>
            <a:ext cx="13228560" cy="18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Visibility</a:t>
            </a:r>
            <a:endParaRPr b="0" lang="en-US" sz="7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509840" y="2597040"/>
            <a:ext cx="13237920" cy="53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marL="179280">
              <a:spcBef>
                <a:spcPts val="22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Class member variables also have scope.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 lvl="1" marL="1027080" indent="-538200">
              <a:spcBef>
                <a:spcPts val="2262"/>
              </a:spcBef>
              <a:buClr>
                <a:srgbClr val="ff00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ff"/>
                </a:solidFill>
                <a:latin typeface="Gill Sans"/>
              </a:rPr>
              <a:t>Public</a:t>
            </a: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 – can be accessed outside the class, inside the class, and in derived classes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 lvl="1" marL="1027080" indent="-538200">
              <a:spcBef>
                <a:spcPts val="2262"/>
              </a:spcBef>
              <a:buClr>
                <a:srgbClr val="ff00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ff"/>
                </a:solidFill>
                <a:latin typeface="Gill Sans"/>
              </a:rPr>
              <a:t>Protected</a:t>
            </a: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 – can be accessed inside the class, and in derived classes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 lvl="1" marL="1027080" indent="-538200">
              <a:spcBef>
                <a:spcPts val="2262"/>
              </a:spcBef>
              <a:buClr>
                <a:srgbClr val="ff00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ff"/>
                </a:solidFill>
                <a:latin typeface="Gill Sans"/>
              </a:rPr>
              <a:t>Private</a:t>
            </a: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 – can only be accessed inside the class (i.e. private variables are not visible in derived classes)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 lvl="1" marL="1027080" indent="-538200">
              <a:spcBef>
                <a:spcPts val="2262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1500120" y="7527960"/>
            <a:ext cx="10083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http://www.php.net/manual/en/language.oop5.visibility.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1665000" y="1087560"/>
            <a:ext cx="11049840" cy="72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class MyClass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{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public $pub = 'Public'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protected $pro = 'Protected'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private $priv = 'Private'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function printHello()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{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25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echo $this-&gt;pub."\n"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25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echo $this-&gt;pro."\n"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25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echo $this-&gt;priv."\n"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obj = new MyClass()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echo $obj-&gt;pub."\n"; // Works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echo $obj-&gt;pro."\n"; // Fatal Error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echo $obj-&gt;priv."\n"; // Fatal Error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obj-&gt;printHello(); // Shows Public, Protected and Private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11797560" y="3591360"/>
            <a:ext cx="219528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Public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Public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Protecte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Privat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TextBox 6"/>
          <p:cNvSpPr/>
          <p:nvPr/>
        </p:nvSpPr>
        <p:spPr>
          <a:xfrm>
            <a:off x="11346840" y="1066680"/>
            <a:ext cx="369108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Gill Sans"/>
              </a:rPr>
              <a:t>visibility.php</a:t>
            </a:r>
            <a:endParaRPr b="0" lang="en-US" sz="45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1981440" y="1303200"/>
            <a:ext cx="12375720" cy="63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class MyClass2 extends MyClas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function printHello(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echo $this-&gt;pub."\n"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echo $this-&gt;pro."\n"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echo $this-&gt;priv."\n"; // Undefin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echo("--- MyClass2 ---\n"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obj2 = new MyClass2(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echo $obj2-&gt;pub."\n"; // Work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obj2-&gt;printHello(); // Shows Public, Protected, Undefin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11148840" y="1322280"/>
            <a:ext cx="3414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--- MyClass2 ---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Public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Public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Protect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(false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9840" y="642960"/>
            <a:ext cx="13228560" cy="18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Building an Object from Scratch</a:t>
            </a:r>
            <a:endParaRPr b="0" lang="en-US" sz="7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509840" y="2596680"/>
            <a:ext cx="13237920" cy="332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marL="722160" indent="-539640">
              <a:spcBef>
                <a:spcPts val="2262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Sometimes a developer will prefer to make an object with public key-value pairs rather than an array.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722160" indent="-539640">
              <a:spcBef>
                <a:spcPts val="2262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Use where appropriate</a:t>
            </a:r>
            <a:r>
              <a:rPr b="0" lang="is-IS" sz="3800" spc="-1" strike="noStrike">
                <a:solidFill>
                  <a:srgbClr val="ffffff"/>
                </a:solidFill>
                <a:latin typeface="Gill Sans"/>
              </a:rPr>
              <a:t>…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1582200" y="1236600"/>
            <a:ext cx="5144400" cy="68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player = new </a:t>
            </a:r>
            <a:r>
              <a:rPr b="0" lang="en-US" sz="2500" spc="-1" strike="noStrike">
                <a:solidFill>
                  <a:srgbClr val="ff00ff"/>
                </a:solidFill>
                <a:latin typeface="Courier New"/>
                <a:ea typeface="ＭＳ Ｐゴシック"/>
              </a:rPr>
              <a:t>stdClass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()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player-&gt;name = "Chuck"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player-&gt;score = 0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player-&gt;score++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print_r($player)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class Player {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public $name = "Sally"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public $score = 0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}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p2 = new Player()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$p2-&gt;score++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urier New"/>
                <a:ea typeface="ＭＳ Ｐゴシック"/>
              </a:rPr>
              <a:t>print_r($p2);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0015200" y="2569680"/>
            <a:ext cx="4054680" cy="42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stdClass Objec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(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[name] =&gt; Chuck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[score] =&gt; 1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Player Objec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(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[name] =&gt; Sall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[score] =&gt; 1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12312360" y="1143000"/>
            <a:ext cx="347616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Gill Sans"/>
              </a:rPr>
              <a:t>scratch.php</a:t>
            </a:r>
            <a:endParaRPr b="0" lang="en-US" sz="4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9653760" y="2286000"/>
            <a:ext cx="5943600" cy="6019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42960"/>
            <a:ext cx="13935240" cy="190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Summary</a:t>
            </a:r>
            <a:endParaRPr b="0" lang="en-US" sz="7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09840" y="2597040"/>
            <a:ext cx="13237920" cy="454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marL="536400" indent="-536400">
              <a:spcBef>
                <a:spcPts val="233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Object Oriented programming is a very structured approach to code reuse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536400" indent="-536400">
              <a:spcBef>
                <a:spcPts val="233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ere is a trend away from global function names and toward OO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536400" indent="-536400">
              <a:spcBef>
                <a:spcPts val="233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We can group data and functionality together and create many independent instances of a class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73320" y="780840"/>
            <a:ext cx="119109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cc66"/>
                </a:solidFill>
                <a:latin typeface="Gill Sans"/>
              </a:rPr>
              <a:t>Acknowledgements / Contributions</a:t>
            </a:r>
            <a:endParaRPr b="0" lang="en-US" sz="45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03" name="Picture 6" descr="CCby.png"/>
          <p:cNvPicPr/>
          <p:nvPr/>
        </p:nvPicPr>
        <p:blipFill>
          <a:blip r:embed="rId1"/>
          <a:stretch/>
        </p:blipFill>
        <p:spPr>
          <a:xfrm>
            <a:off x="13409640" y="920880"/>
            <a:ext cx="1773360" cy="668160"/>
          </a:xfrm>
          <a:prstGeom prst="rect">
            <a:avLst/>
          </a:prstGeom>
          <a:ln w="0">
            <a:noFill/>
          </a:ln>
        </p:spPr>
      </p:pic>
      <p:sp>
        <p:nvSpPr>
          <p:cNvPr id="204" name="TextBox 4"/>
          <p:cNvSpPr/>
          <p:nvPr/>
        </p:nvSpPr>
        <p:spPr>
          <a:xfrm>
            <a:off x="1201680" y="1987560"/>
            <a:ext cx="6446880" cy="58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These slides are Copyright 2010-  Charles R. Severance (www.dr-chuck.com) as part of www.wa4e.com and made available under a Creative Commons Attribution 4.0 License.  Please maintain this last slide in all copies of the document to comply with the attribution requirements of the license.  If you make a change, feel free to add your name and organization to the list of contributors on this page as you republish the materials.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Initial Development: Charles Severance, University of Michigan School of Information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Gill Sans"/>
              </a:rPr>
              <a:t>Insert new Contributors and Translators here including names and dat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8402760" y="1893960"/>
            <a:ext cx="6446880" cy="58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Gill Sans"/>
              </a:rPr>
              <a:t>Continue new Contributors and Translators her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09480" y="642960"/>
            <a:ext cx="12309480" cy="18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Definitions</a:t>
            </a:r>
            <a:endParaRPr b="0" lang="en-US" sz="7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09840" y="2596680"/>
            <a:ext cx="13228560" cy="34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rmAutofit/>
          </a:bodyPr>
          <a:p>
            <a:pPr marL="757080" indent="-539640">
              <a:spcBef>
                <a:spcPts val="2262"/>
              </a:spcBef>
              <a:buClr>
                <a:srgbClr val="ff7f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7f00"/>
                </a:solidFill>
                <a:latin typeface="Gill Sans"/>
              </a:rPr>
              <a:t>Class</a:t>
            </a: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 - a template - Dog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757080" indent="-539640">
              <a:spcBef>
                <a:spcPts val="2262"/>
              </a:spcBef>
              <a:buClr>
                <a:srgbClr val="ff7f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7f00"/>
                </a:solidFill>
                <a:latin typeface="Gill Sans"/>
              </a:rPr>
              <a:t>Method </a:t>
            </a: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- A defined capability of a class - bark()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757080" indent="-539640">
              <a:spcBef>
                <a:spcPts val="2262"/>
              </a:spcBef>
              <a:buClr>
                <a:srgbClr val="ff7f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7f00"/>
                </a:solidFill>
                <a:latin typeface="Gill Sans"/>
              </a:rPr>
              <a:t>Object or Instance</a:t>
            </a: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 - A particular instance of a class - Lassie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12463560" y="1185840"/>
            <a:ext cx="2665440" cy="1774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4629960" y="7848720"/>
            <a:ext cx="1154880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"/>
              </a:rPr>
              <a:t>Image CC-By 2.0: https://www.flickr.com/photos/dinnerseries/23570475099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9840" y="642600"/>
            <a:ext cx="1323792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ff00"/>
                </a:solidFill>
                <a:latin typeface="Gill Sans"/>
              </a:rPr>
              <a:t>Additional Source Information</a:t>
            </a:r>
            <a:endParaRPr b="0" lang="en-US" sz="7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09840" y="1998720"/>
            <a:ext cx="13237920" cy="595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t">
            <a:normAutofit/>
          </a:bodyPr>
          <a:p>
            <a:pPr marL="722160" indent="-537840">
              <a:spcBef>
                <a:spcPts val="233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nowman Cookie Cutter" by Didriks is licensed under CC BY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s://www.flickr.com/photos/dinnerseries/23570475099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722160" indent="-537840">
              <a:spcBef>
                <a:spcPts val="233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hoto from the television program 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Lassie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. Lassie watches as Jeff (Tommy Rettig) works on his bike is Public Domain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s://en.wikipedia.org/wiki/Lassie#/media/File:Lassie_and_Tommy_Rettig_1956.JPG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722160" indent="-537840">
              <a:spcBef>
                <a:spcPts val="233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00320" y="609480"/>
            <a:ext cx="9390240" cy="18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Terminology: </a:t>
            </a:r>
            <a:r>
              <a:rPr b="0" lang="en-US" sz="7500" spc="-1" strike="noStrike">
                <a:solidFill>
                  <a:srgbClr val="ff7f00"/>
                </a:solidFill>
                <a:latin typeface="Gill Sans"/>
              </a:rPr>
              <a:t>Class</a:t>
            </a:r>
            <a:endParaRPr b="0" lang="en-US" sz="7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978200" y="3157560"/>
            <a:ext cx="126903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Defines the abstract characteristics of a thing (object), including the thing’s characteristics (its attributes, fields, or properties) and the thing’s behaviors (the things it can do, or methods, operations, or features). One might say that a </a:t>
            </a:r>
            <a:r>
              <a:rPr b="0" lang="en-US" sz="3600" spc="-1" strike="noStrike">
                <a:solidFill>
                  <a:srgbClr val="ff7f00"/>
                </a:solidFill>
                <a:latin typeface="Gill Sans"/>
                <a:ea typeface="ＭＳ Ｐゴシック"/>
              </a:rPr>
              <a:t>class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 is a </a:t>
            </a:r>
            <a:r>
              <a:rPr b="0" lang="en-US" sz="3600" spc="-1" strike="noStrike">
                <a:solidFill>
                  <a:srgbClr val="ff7f00"/>
                </a:solidFill>
                <a:latin typeface="Gill Sans"/>
                <a:ea typeface="ＭＳ Ｐゴシック"/>
              </a:rPr>
              <a:t>blueprint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 or factory that describes the nature of something. For example, the </a:t>
            </a:r>
            <a:r>
              <a:rPr b="0" lang="en-US" sz="3600" spc="-1" strike="noStrike">
                <a:solidFill>
                  <a:srgbClr val="ff7f00"/>
                </a:solidFill>
                <a:latin typeface="Gill Sans"/>
                <a:ea typeface="ＭＳ Ｐゴシック"/>
              </a:rPr>
              <a:t>class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 Dog would consist of traits shared by all dogs, such as breed and fur color (characteristics), and the ability to bark and sit (behaviors)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12463560" y="1185840"/>
            <a:ext cx="266544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69720" y="642960"/>
            <a:ext cx="9479160" cy="18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Terminology: </a:t>
            </a:r>
            <a:r>
              <a:rPr b="0" lang="en-US" sz="7500" spc="-1" strike="noStrike">
                <a:solidFill>
                  <a:srgbClr val="ff00ff"/>
                </a:solidFill>
                <a:latin typeface="Gill Sans"/>
              </a:rPr>
              <a:t>Instance</a:t>
            </a:r>
            <a:endParaRPr b="0" lang="en-US" sz="7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978200" y="3432240"/>
            <a:ext cx="12690360" cy="34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One can have an </a:t>
            </a:r>
            <a:r>
              <a:rPr b="0" lang="en-US" sz="3900" spc="-1" strike="noStrike">
                <a:solidFill>
                  <a:srgbClr val="ff00ff"/>
                </a:solidFill>
                <a:latin typeface="Gill Sans"/>
                <a:ea typeface="ＭＳ Ｐゴシック"/>
              </a:rPr>
              <a:t>instance</a:t>
            </a:r>
            <a:r>
              <a:rPr b="0" lang="en-US" sz="39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 of a class or a particular object. The </a:t>
            </a:r>
            <a:r>
              <a:rPr b="0" lang="en-US" sz="3900" spc="-1" strike="noStrike">
                <a:solidFill>
                  <a:srgbClr val="ff00ff"/>
                </a:solidFill>
                <a:latin typeface="Gill Sans"/>
                <a:ea typeface="ＭＳ Ｐゴシック"/>
              </a:rPr>
              <a:t>instance</a:t>
            </a:r>
            <a:r>
              <a:rPr b="0" lang="en-US" sz="39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 is the actual object created at runtime. In programmer jargon, the Lassie object is an </a:t>
            </a:r>
            <a:r>
              <a:rPr b="0" lang="en-US" sz="3900" spc="-1" strike="noStrike">
                <a:solidFill>
                  <a:srgbClr val="ff00ff"/>
                </a:solidFill>
                <a:latin typeface="Gill Sans"/>
                <a:ea typeface="ＭＳ Ｐゴシック"/>
              </a:rPr>
              <a:t>instance</a:t>
            </a:r>
            <a:r>
              <a:rPr b="0" lang="en-US" sz="39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 of the Dog class. The set of values of the attributes of a particular </a:t>
            </a:r>
            <a:r>
              <a:rPr b="0" lang="en-US" sz="3900" spc="-1" strike="noStrike">
                <a:solidFill>
                  <a:srgbClr val="ff00ff"/>
                </a:solidFill>
                <a:latin typeface="Gill Sans"/>
                <a:ea typeface="ＭＳ Ｐゴシック"/>
              </a:rPr>
              <a:t>object</a:t>
            </a:r>
            <a:r>
              <a:rPr b="0" lang="en-US" sz="39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 is called its state. The </a:t>
            </a:r>
            <a:r>
              <a:rPr b="0" lang="en-US" sz="3900" spc="-1" strike="noStrike">
                <a:solidFill>
                  <a:srgbClr val="ff00ff"/>
                </a:solidFill>
                <a:latin typeface="Gill Sans"/>
                <a:ea typeface="ＭＳ Ｐゴシック"/>
              </a:rPr>
              <a:t>object</a:t>
            </a:r>
            <a:r>
              <a:rPr b="0" lang="en-US" sz="39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 consists of state and the behavior that is defined in the object’s class.</a:t>
            </a:r>
            <a:endParaRPr b="0" lang="en-US" sz="3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219120" y="7472160"/>
            <a:ext cx="10019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Gill Sans"/>
                <a:ea typeface="ＭＳ Ｐゴシック"/>
              </a:rPr>
              <a:t>Object and Instance are often used interchangeably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12463560" y="1185840"/>
            <a:ext cx="266544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69720" y="642960"/>
            <a:ext cx="9425160" cy="18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66"/>
                </a:solidFill>
                <a:latin typeface="Gill Sans"/>
              </a:rPr>
              <a:t>Terminology: </a:t>
            </a:r>
            <a:r>
              <a:rPr b="0" lang="en-US" sz="7500" spc="-1" strike="noStrike">
                <a:solidFill>
                  <a:srgbClr val="00ff00"/>
                </a:solidFill>
                <a:latin typeface="Gill Sans"/>
              </a:rPr>
              <a:t>Method</a:t>
            </a:r>
            <a:endParaRPr b="0" lang="en-US" sz="7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978200" y="3432240"/>
            <a:ext cx="12690360" cy="34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An object’s abilities. In language, </a:t>
            </a:r>
            <a:r>
              <a:rPr b="0" lang="en-US" sz="3600" spc="-1" strike="noStrike">
                <a:solidFill>
                  <a:srgbClr val="00ff00"/>
                </a:solidFill>
                <a:latin typeface="Gill Sans"/>
                <a:ea typeface="ＭＳ Ｐゴシック"/>
              </a:rPr>
              <a:t>methods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 are verbs. Lassie, being a Dog, has the ability to bark. So bark() is one of Lassie’s methods. She may have other </a:t>
            </a:r>
            <a:r>
              <a:rPr b="0" lang="en-US" sz="3600" spc="-1" strike="noStrike">
                <a:solidFill>
                  <a:srgbClr val="00ff00"/>
                </a:solidFill>
                <a:latin typeface="Gill Sans"/>
                <a:ea typeface="ＭＳ Ｐゴシック"/>
              </a:rPr>
              <a:t>methods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 as well, for example sit() or eat() or walk() or save_timmy(). Within the program, using a </a:t>
            </a:r>
            <a:r>
              <a:rPr b="0" lang="en-US" sz="3600" spc="-1" strike="noStrike">
                <a:solidFill>
                  <a:srgbClr val="00ff00"/>
                </a:solidFill>
                <a:latin typeface="Gill Sans"/>
                <a:ea typeface="ＭＳ Ｐゴシック"/>
              </a:rPr>
              <a:t>method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 usually affects only one particular object; all Dogs can bark, but you need only one particular dog to do the barking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964600" y="7437960"/>
            <a:ext cx="10328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Gill Sans"/>
                <a:ea typeface="ＭＳ Ｐゴシック"/>
              </a:rPr>
              <a:t>Method and Message are often used interchangeably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12463560" y="1185840"/>
            <a:ext cx="266544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6537960" y="7943760"/>
            <a:ext cx="777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http://php.net/manual/en/ref.datetime.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5081760" y="1143000"/>
            <a:ext cx="8502480" cy="65023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1769760" y="1145880"/>
            <a:ext cx="255816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Non-OOP</a:t>
            </a:r>
            <a:endParaRPr b="0" lang="en-US" sz="45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5155200" y="7774560"/>
            <a:ext cx="91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http://www.php.net/manual/en/class.datetime.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5005440" y="1143000"/>
            <a:ext cx="8502480" cy="63673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1806480" y="1145880"/>
            <a:ext cx="12398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OOP</a:t>
            </a:r>
            <a:endParaRPr b="0" lang="en-US" sz="45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Microsoft Office User</cp:lastModifiedBy>
  <dcterms:modified xsi:type="dcterms:W3CDTF">2017-10-11T16:24:31Z</dcterms:modified>
  <cp:revision>85</cp:revision>
  <dc:subject/>
  <dc:title>PHP Objects</dc:title>
</cp:coreProperties>
</file>